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819-9C7D-44C8-B03A-CFA6D1C1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FB8-0FD3-480F-94A5-030D2F00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37D-8A6B-4BEC-AD7A-4CE21887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D10-85D4-445F-8040-B036F73C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E86C-C67B-42C9-9916-AFC4DF57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17A1-8EBA-4AC7-A1E9-E2638756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9D57-A468-4D61-9258-9B5688AB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0AF4-2C03-4D42-B285-6B40E701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9EED-D63B-42DB-8123-28822DC0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A160-777B-4B8D-B937-4E1FEA32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7360-B7BB-4AA3-A108-FB69FA0F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578-A361-492E-BB01-3AB8517B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5E6C-30A4-4E92-8D50-C24C0BEE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CE6F-17AD-40D0-8A6D-D8C1129E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0177-3916-4D51-9E97-3C25E566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884D-5E7C-4C8F-AE45-53513359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D1D4-6144-421F-835F-2F269A14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DDF-153E-44DC-A4F0-CE925381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2EF5-A91F-4DEE-82E1-8ACDE05F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43A-960F-4DA8-8606-BD38E59F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0A4-3F16-4691-A9F0-5A852855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89F-D744-4489-9BA5-EA33113C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6AF6-DA11-45D9-945A-B239EF40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0B6D-2AF0-4264-BFDC-B222AE03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F627-72C9-4186-97F9-EEE002FDEC04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14E2-63B3-4950-BA1A-E75D17CB9FDE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PSICHIKOS RAIDA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Psichikos ontogenezė ir filogenezė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Žmogaus raidos periodizacij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E.ERIKSONO PSICHOSOCIALINĖS RAIDOS TEORIJA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augumas – nesaug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nuo gimimo iki 1 metų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utonomiškumas – gėda, abejonė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1-3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iciatyvumas – kaltė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3-6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Meistriškumas – menkavertišk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7-11 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Tapatumas – vaidmenų neaiškum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paauglystė, 11 – 20 m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tymumas – izoliacij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jaunystė, 21 –2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tsinaujinimas – sąsting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vidutinis amži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Integracija (pilnatvė) – nevilt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senatvė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Raidos KRIZĖ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utrieji individualios raidos perioda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n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v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ūs perioda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rizės esmė – poreikių, kurie kyla kiekvieno amžiaus tarpsnio pabaigoje, nepatenkinimo rezulta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patuma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1) sunku atskirti krizės pradžią ir pabaigą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2) mokykloje krenta bendras darbingumas, konfliktai su aplinkiniais, konfliktai viduj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ahoma"/>
              </a:rPr>
              <a:t>3) šiame periode vyst. būdingas negatyvus charakteris, vyst. atlieka tarsi griaunamąjį darbą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RAIDOS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 KRIZĖ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1 metų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3 metų (Aš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7 metų (perėjimas nuo ikimokyklinio amžiaus į mokyklinį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auglystė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Vidutinio amžiaus (api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0m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enatvės + šeimos krizė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aauglystė ir jaunystė 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Akceleraci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Infantiliz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Didėja sugebėjimas abstrakčiai mąstyt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adidintas emocionalu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ahoma"/>
              </a:rPr>
              <a:t>Psichosocialinis moratorium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Filogene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rūšies istorinė raida, psichikos atsiradimas ir rai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Ontogenezė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žmogaus raida per jo gyvenimą. Individualus organizmo vystymasis. Ją tiria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raidos psichologij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FILOGENETINIS PSICHIKOS VYSTYMASI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Kinezė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–organizmo bendro aktyvumo pasikeitimas, veikiant kuriam nors aplinkos veiksni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Taksis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yra kryptinga reakcija į konkretų aplinkos reiškin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Nesąlyginis refleks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- atskiro organizmo lokali reakcija į išorinį ar vidinį dirginim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stinkt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- sudėtingiausias paveldėto elgesio komponentas, jam sukelti reikalinga vidinė parengtis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Pripratimas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susijęs su viso organizmo ar atskirų jo dalių reakcijų silpnėjimu ir išnykimu, kartojantis nereikšmingam arba virtusiam nereikšmingu stimul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Klasikinis sąlyginis reflek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strumentinis sąlyginis reflek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ahoma"/>
              </a:rPr>
              <a:t>Intelektinė veikla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įgalina orientuotis naujoje situacijoje, išskirti esminius jos elementus, numatyti įvykių eigą, sudaryti veikimo planą ir jį įgyvendint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200" spc="-1" strike="noStrike">
                <a:solidFill>
                  <a:srgbClr val="330033"/>
                </a:solidFill>
                <a:latin typeface="Tahoma"/>
              </a:rPr>
              <a:t>Raidos periodizacij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002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renatalinis perio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Kūdikystė (nuo gimimo iki 1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Ankstyvoji vaikystė (1-3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Ikimokyklinis amžius (3-6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Jaunesnysis mokyklinis amžius (6-1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aauglystė (10-16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Jaunyst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vyresnysis mokyklinis amžius (15-17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antrasis jaunystės laikotarpis (17-2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Br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pirmasis laikotarpis (21-35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- antrasis laikotarpis (35-6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Pagyvenęs amžius (60-75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Senatvė (75-90 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ahoma"/>
              </a:rPr>
              <a:t>Ilgaamžystė (90 ir daugiau metų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INIS VYSTYMASI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nis vystymasis – pažinimo, emocinių – motyvacinių procesų ir asmenybės vysty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mogaus raidos aspekta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Fizin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ognityvin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osocialinis aspekt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Kūdikystė (10 d. – 1 m.)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ensomotorinis intelekta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Aktyvumą skatina įvairūs fiziologiniai poreikiai, pasaulio pažinimas vyksta per jutimo organų lavėjimą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Kalbos raid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čiauškėjim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Psichosocialinis vystymas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šypsojimasis/juokas, verkimas, emocijos, temperamentas. Prieraišumo formavimasis (J. Bowlby, Lorencas, M. Ainsworth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ierašumo charakteristikos </a:t>
            </a: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(pg. J.Bowlby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Artumo palaikyma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augus “roju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augi platforma/baz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Išsiskyrimo neri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Vaikų intelekto raidos stadijos </a:t>
            </a:r>
            <a:br>
              <a:rPr sz="38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(pg. J.Piaget)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820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Sensomotorinė stadija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0-2m). Vaikas turi refleksinį elgesį, jį po truputį keičia sudėtingesnė veikla. Su aplinka susipažįsta per jutimus, judesius. Savęs dar neskiria nuo aplink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Priešoperacinio mąstymo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2-7m) Vaikas pradeda naudotis kalba ir simboliais. Mąstymui būdingas egocentriškumas, jis negali suprasti kito žmogaus perspektyvos. Pradeda suprasti loginius ryšius, sugeba skirstyti objektus į klases, įsisąmonina tvermės dėsnį. Ryškėja simbolinis mąstyma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Konkreč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7-11m). Vaikas ima suprasti priežasties-pasekmės ryšius, suvokia laiko, kiekio, masės, ilgio sąvokas. Mąstymas išlieka konkretus, gali suprasti tik veiksmus su konkrečiais daikta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Formal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11-14m). Mąstymas logiškas, mokslinis (t.y. keliamos hipotezės, jos tikrinamos, siekiama tam tikrų tikslų) naudojamos abstrakcij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Postformalių operacijų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(14 ir daugiau m.) – pats autorius neskyrė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25:21Z</dcterms:created>
  <dc:creator>vplc</dc:creator>
  <dc:description/>
  <dc:language>en-US</dc:language>
  <cp:lastModifiedBy> </cp:lastModifiedBy>
  <dcterms:modified xsi:type="dcterms:W3CDTF">2007-09-12T21:49:38Z</dcterms:modified>
  <cp:revision>21</cp:revision>
  <dc:subject/>
  <dc:title>Slide 1</dc:title>
</cp:coreProperties>
</file>